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D606-F4A2-439F-8306-0FBF59B8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C44-279F-489D-A5DB-3F13B871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91E-E831-497D-BFA1-58D37C77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AFB4-95BE-4520-ACDB-FD6244D3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6FFC-A94E-498A-8CC8-9F76CE77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67CE-1B50-410A-B153-2B07EB2F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4093-F58B-48A0-B5D9-A27E025D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3B5F-D802-477C-A8DF-C6E33006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58BE-A7D2-4647-B74E-77FD5AB4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E5E2-869A-4665-8E59-4D584520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2781-AC45-4731-B839-877B1740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05AC-19B5-4630-8544-0675C93D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1C98-FC95-4F51-81E1-03DD21D0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8BDA-30B6-4142-B88A-A2EB2671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BDFD-55E4-4115-80B8-68175736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561A-68F7-4216-A00E-3F75520B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8287-72B8-4150-999A-F94C41DD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A51E8-CD8E-4D4C-A598-1574D08D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F8E33-969A-4E8A-9962-5C539555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D3DB4-580A-4C70-8EB5-2112D71B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690A0-AE16-40D1-B697-EC845878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13845-36BD-4DD8-B69B-89AD527D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6514-AFB5-41D5-B4C1-C280CEDC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0AAE1-D5FB-4D7C-BC66-5323177D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15FEA-343A-4D55-9F73-F7B0E224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06072-A610-4DA0-92F6-76019E10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DC3CF-61BD-47DC-978F-5EE0E0C5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54855-A716-4BEB-975F-AF758F13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EA67B-971D-4AAA-8B60-73E24B5D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875E3-66EE-4ACA-89CF-5DFAECD9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5650F-6B7A-47CF-857A-404365EE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32010-92E1-45ED-83F1-1CDC8894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38E2E-663A-4407-9BEF-D809574D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8C9-49A7-4B74-AA4C-E76280DA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A004B-4316-489C-980F-168307A2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A8351-B405-451B-8185-7EA83617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3A9F5-A5A1-4F34-A0CD-9AC0E8A1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F5683-F3B4-4D71-9CE9-C9292ABE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8D7C0-EF1D-4F4E-8595-08516118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4D234-1DB8-49C1-908A-151B7221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73EEC-EA42-4170-9226-68570822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15F83-2B69-40E9-BE29-094D05C7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9003F-E2D0-4D31-B4CB-F3D39458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C285E-D8BA-476D-9D35-F4D35C3C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29CB-496D-44E9-A209-36CD59C1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AA3F3-871E-4A0A-ACF4-30656279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51A2F-A589-45FC-A1D2-6E2784A5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87856-339D-4D93-8568-550D94EE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025E1-55A0-4553-83AE-21491424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AC4E1-BA1D-4BE2-9029-B251BBA3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85607-EEF0-490D-BD0C-7373A2A9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538B1-61F0-43CF-AB0A-17408F90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BF93E-0128-43AB-9CB6-DE287F79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01AD4-2C7B-4064-AB5C-5AA2516A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8F3DE-1966-4017-A61C-1B2C9E9C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0923-472F-44B5-8C25-48BE09ED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27937-996A-46A1-94D2-3744FCD67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77F8-8CF0-4B52-AC9A-D4FF8087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EEBD-E6FC-47D2-A4DA-08BC5EF9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7E7B-F800-42AB-8853-585F4C9D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95D9-6410-42AE-A211-F4E2C293D13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9596-BD07-440C-A9AF-1E67BEEACFC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3BBE-A7DE-47F3-A897-E6EA4E42172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58C8-4151-404F-A7B0-2A22070DFFB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C376-4338-4D15-B296-C138E051985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An Overview of Alcatraz Isla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&amp;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The Major World/US Events of 1935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Alcatraz Island and The World, 1935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ere is Alcatraz Island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1" name="Content Placeholder 9" descr="san_francisco_map.gif"/>
          <p:cNvPicPr/>
          <p:nvPr/>
        </p:nvPicPr>
        <p:blipFill>
          <a:blip r:embed="rId1"/>
          <a:stretch/>
        </p:blipFill>
        <p:spPr>
          <a:xfrm>
            <a:off x="533520" y="1371600"/>
            <a:ext cx="4724280" cy="5237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Alcatraz.jpg"/>
          <p:cNvPicPr/>
          <p:nvPr/>
        </p:nvPicPr>
        <p:blipFill>
          <a:blip r:embed="rId2"/>
          <a:stretch/>
        </p:blipFill>
        <p:spPr>
          <a:xfrm>
            <a:off x="5791320" y="42670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san_francisco_map alcatraz.gif"/>
          <p:cNvPicPr/>
          <p:nvPr/>
        </p:nvPicPr>
        <p:blipFill>
          <a:blip r:embed="rId3"/>
          <a:stretch/>
        </p:blipFill>
        <p:spPr>
          <a:xfrm>
            <a:off x="5943600" y="1447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istory of Alcatraz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144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775: Island discovered by Spanish explorer Juan Manuel de Ayal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847: US Army decides the island would make an ideal military for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853: US Army begins to build military fortress on isla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861: Island is used to hold Civil War prison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898: prisoners of Spanish-American War are held on the island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906: After the San Francisco Earthquake, hundreds of civilian prisoners are transferred to Alcatra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912: Large cell house is constructed on Alcatra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History of Alcatraz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920s: Three-story cell house is nearly full to capac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934: Prison is remodeled and turned into a US Federal Penitentiar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934: James A. Johnston is selected to serve as Alcatraz’s first Warde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ugust of 1934: the most notorious prisoners from McNeil Island, the Federal Penitentiary of Atlanta, and Leavenworth were being sent to Alcatraz (including Al Capone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Alcatraz Fact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famous Inmates: Al Capone, George “Machine Gun” Kelly, Henri Young, Robert “Birdman of Alcatraz” Stroud, Doc Barker, Floyd Hamilton, and Alvin “Creepy” Karpi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re were 14 known escape attempts from Alcatraz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re are no known “successful” escapes from Alcatraz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United States of 1935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US is in the midst of the Great Depression, which began around 1929 (The Great Stock Market Crash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uring the Great Depression, many businesses closed and a large amount of Americans were unemploy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sident Franklin Roosevelt opens the second phase of The New Deal in U.S., calling for social security, better housing, equitable taxation, and farm assistance.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660960" indent="-25416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New Deal was a reform program that went through two phases—in 1935 the second phase, which focused on helping the worker, began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World of 1935—Germany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uring this time, Germany was becoming a growing threat to the world. The Nazi Party, led by Adolf Hitler, was now in power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 1935, the Nazis reject the Versailles Treaty, the agreement that ended WWI, and introduce mandatory military servic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azis enact Nuremberg Laws against Jews to prevent "racial pollution.“ Jews lose citizenship and civil right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he Rest of the World, 1935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ussolini, the Fascist Dictator of Italy, invades Ethiopi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ersia becomes Iran under Reza Shah Pahlevi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00:10:59Z</dcterms:created>
  <dc:creator>Administrator</dc:creator>
  <dc:description/>
  <dc:language>en-US</dc:language>
  <cp:lastModifiedBy>Stephanie</cp:lastModifiedBy>
  <dcterms:modified xsi:type="dcterms:W3CDTF">2008-06-13T01:40:58Z</dcterms:modified>
  <cp:revision>8</cp:revision>
  <dc:subject/>
  <dc:title>Alcatraz Island and The World, 1935</dc:title>
</cp:coreProperties>
</file>